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389A-8612-49CA-ADD1-8CAF06773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2B61-5597-4AE1-A456-28E235F27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DD41-5F08-4878-907B-9028BC917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BFC4-128A-4507-B61D-44C0CFE6F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64A0-0C6B-49C6-A50E-3C9AE3A0B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9F0D-1324-4955-99BA-D5D5A7B39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6DB7-54A5-4321-8C09-D1ABA9761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E326-CC28-4676-B6A8-1AE73D185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FAFC-D084-4A07-AB30-DB33D8852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3C12-A164-4559-BDDC-FE02E51A3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AC5C-BA69-4322-8A06-7969A25CD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FB92-C06F-4DEF-A47F-9B72B7652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1F98-37B5-4B0B-9067-A19EF3A343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1A6E-27C2-49F3-937D-A0B1DD652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5C90-4619-4B07-AC4A-4B538B021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5839-1884-4CC8-BA80-19A6101AB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B17B-EC9A-480D-838E-70666C1A4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E9D3-68C0-4052-A325-4E4136728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3BB9-6206-4CC9-B1A0-4649520EA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56FD-4210-4462-8ACC-298C0F6A0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0CA4-986A-4983-A2F1-CD529FA3F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DEFF-0049-47D9-948D-33AA30443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6F71-1BCB-40EE-8782-BFAE854D5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D039-CDC4-411C-BC87-8B17ADC85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505C-4895-48CD-AA3B-5FD553400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216A-3B3B-4095-A9E7-2E9BF3B83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EE3C-F09A-451F-9F09-1107B6850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9CE-C7EF-4117-8D5C-9C552FF0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7D0-6949-4213-8767-EFACFBA1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124-DF65-4DBF-A38E-B7A02908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64A-60CC-4BDB-A465-407B97F6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1357-642B-43F3-818B-CF09F51E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21BE-011B-44AB-977F-3B8FA9B6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6697-01E6-4720-ACAB-22B3164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B35C-D0C0-463E-8A63-868C9246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97CE-E757-47F3-B2B4-FCC85801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E78B-C5BB-4654-A39B-B9400300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2A81-EB78-4CD3-A7A2-88C57672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5CC-2A37-4F03-82AA-EEAB1457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CFE7-F223-49FB-B569-9120AF1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5845-620A-4C2A-8D15-24C1D31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A7CD-6813-4868-BAE8-71C394B1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7764-CEB7-469D-A293-587BEE64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D841-B933-4DD7-949A-2A1EBD93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DBEE-9BC2-4EB6-9454-76AA233D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ECC3-DE58-4269-9FA5-5738C5FB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E2654-3D76-4C2C-8100-926079F6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7070-6F1D-4AB6-AC2D-8DA04DAA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E852-0916-4B14-88F1-9392473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70B-A805-48EB-9863-76EA020B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D809-D5BF-4865-AA14-6AC6F6B1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3BC1-0F41-47D8-839E-94F3779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08C1-2A6D-499B-8B4C-96875354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51CF-B80F-4AE6-ACBA-CEFC19F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618A5-3368-40B2-A593-941D443B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6B4C-34A7-4798-9FBE-EE38D05B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5FE7-F351-4893-BC3F-2BAE85F1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8C10-0B1A-4AEC-AA02-0A634717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5C6B-987D-4CEC-8CBC-C2F7542B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51C0-486E-40CD-990B-789D5EC3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1F8-77B5-4700-AA7B-7CF4F05D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4D594-BA2A-4587-9F94-F87FD772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7681D-1601-4EBB-A8FD-81D3FEAB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0736A-8E71-43BB-8081-25B949D8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4E5F-C97B-4AFB-B959-D80E59D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3995-3566-4F0A-8621-11A7FC4A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7A07-103C-46AF-864F-617FCF8E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076A-4A4A-4487-98FF-EA1AD603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899F-D347-4743-8967-59A09E58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11D4-4525-47CF-BAB0-189ABA7E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13EE-1582-4788-B5E5-939B367C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747-185E-41A2-95A6-A50E35A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813CA-2635-41FB-8F0A-AE43C78B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43E5-C675-4E9C-A013-1261BC96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469ED-1EC9-4272-BC7A-2DCB00ED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DA16-A40B-436D-8FE0-BF1A3524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D3D0-1033-461A-BAA4-43526D3E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8938D-016E-426A-A55E-367B753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BC37-4D29-4727-B24A-44A3F77F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022A-F044-4018-9636-8609C81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1ABC4-CC3B-4BB9-A415-572A35ED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FC1E4-1190-4AC8-A1AF-D47A7B12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AF0-13FA-4DB0-A80A-676434DD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9020-D2F9-4DE7-8809-0AC364D1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2D3-D0B7-4425-A4A1-8AAE645B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095-0598-4E10-8EDD-28FE1CD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866-9FC9-45E0-BBD9-C24A70FD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B126-071E-4C8E-BA50-C5C4221446C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B03-67D5-4842-A9B6-DED40136F199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D233-D890-4E96-A116-6B1BF3BBE75D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9AFB-415E-4C1F-83E4-318EF0FA6965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1CCD-5616-440E-AF89-429A9520974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Готовимся к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04920" y="1371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чебный тренажёр и проверочный тест по теме: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редства художественной выраз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"/>
          <p:cNvPicPr/>
          <p:nvPr/>
        </p:nvPicPr>
        <p:blipFill>
          <a:blip r:embed="rId1"/>
          <a:stretch/>
        </p:blipFill>
        <p:spPr>
          <a:xfrm>
            <a:off x="3665520" y="3048120"/>
            <a:ext cx="175572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val 9"/>
          <p:cNvSpPr/>
          <p:nvPr/>
        </p:nvSpPr>
        <p:spPr>
          <a:xfrm>
            <a:off x="1752480" y="25858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"/>
          <p:cNvSpPr/>
          <p:nvPr/>
        </p:nvSpPr>
        <p:spPr>
          <a:xfrm>
            <a:off x="1752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1752480" y="4734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1752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644220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6421320" y="4734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8"/>
          <p:cNvSpPr/>
          <p:nvPr/>
        </p:nvSpPr>
        <p:spPr>
          <a:xfrm>
            <a:off x="6421320" y="3565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9"/>
          <p:cNvSpPr/>
          <p:nvPr/>
        </p:nvSpPr>
        <p:spPr>
          <a:xfrm>
            <a:off x="6421320" y="57070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Бессменный котелок на улице немедленно повернул ухо к Бронскому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(М. Булг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екд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Oval 9"/>
          <p:cNvSpPr/>
          <p:nvPr/>
        </p:nvSpPr>
        <p:spPr>
          <a:xfrm>
            <a:off x="1703520" y="25527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703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1703520" y="47196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1703520" y="5715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629136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7"/>
          <p:cNvSpPr/>
          <p:nvPr/>
        </p:nvSpPr>
        <p:spPr>
          <a:xfrm>
            <a:off x="6291360" y="36003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6329520" y="4737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6329520" y="56530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Крылатые слова многообразны по своему происхождению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(Н. Аким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val 9"/>
          <p:cNvSpPr/>
          <p:nvPr/>
        </p:nvSpPr>
        <p:spPr>
          <a:xfrm>
            <a:off x="1752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1752480" y="36385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1752480" y="47401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1752480" y="5715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6248520" y="47293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8"/>
          <p:cNvSpPr/>
          <p:nvPr/>
        </p:nvSpPr>
        <p:spPr>
          <a:xfrm>
            <a:off x="6248520" y="25401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9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С часу на час должно было и нам ожидать нападения Пугачева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(А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фраз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рха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п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9"/>
          <p:cNvSpPr/>
          <p:nvPr/>
        </p:nvSpPr>
        <p:spPr>
          <a:xfrm>
            <a:off x="1801800" y="2577960"/>
            <a:ext cx="3589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1801800" y="3571920"/>
            <a:ext cx="3589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1801800" y="4724280"/>
            <a:ext cx="3589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1801800" y="5719680"/>
            <a:ext cx="3589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6275520" y="2565360"/>
            <a:ext cx="36180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7"/>
          <p:cNvSpPr/>
          <p:nvPr/>
        </p:nvSpPr>
        <p:spPr>
          <a:xfrm>
            <a:off x="6275520" y="35337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8"/>
          <p:cNvSpPr/>
          <p:nvPr/>
        </p:nvSpPr>
        <p:spPr>
          <a:xfrm>
            <a:off x="6275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9"/>
          <p:cNvSpPr/>
          <p:nvPr/>
        </p:nvSpPr>
        <p:spPr>
          <a:xfrm>
            <a:off x="6275520" y="4724280"/>
            <a:ext cx="36180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Мириады цветов буйными красками заливают поля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И. Мар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каламб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раз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п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>
            <a:hlinkClick r:id="rId1" action="ppaction://hlinksldjump"/>
          </p:cNvPr>
          <p:cNvSpPr/>
          <p:nvPr/>
        </p:nvSpPr>
        <p:spPr>
          <a:xfrm>
            <a:off x="1295280" y="1600200"/>
            <a:ext cx="6934320" cy="936720"/>
          </a:xfrm>
          <a:prstGeom prst="bevel">
            <a:avLst>
              <a:gd name="adj" fmla="val 12500"/>
            </a:avLst>
          </a:prstGeom>
          <a:solidFill>
            <a:srgbClr val="08a1d9"/>
          </a:solidFill>
          <a:ln w="381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>
            <a:hlinkClick r:id="rId2" action="ppaction://hlinksldjump"/>
          </p:cNvPr>
          <p:cNvSpPr/>
          <p:nvPr/>
        </p:nvSpPr>
        <p:spPr>
          <a:xfrm>
            <a:off x="1219320" y="2851200"/>
            <a:ext cx="7010280" cy="93672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1" descr=""/>
          <p:cNvPicPr/>
          <p:nvPr/>
        </p:nvPicPr>
        <p:blipFill>
          <a:blip r:embed="rId3"/>
          <a:stretch/>
        </p:blipFill>
        <p:spPr>
          <a:xfrm>
            <a:off x="3873600" y="3786120"/>
            <a:ext cx="118908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274680" y="838080"/>
            <a:ext cx="847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e65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Проверочный тест состоит из 10 заданий. Каждое задание имеет 4 варианта ответа, один из которых - неправ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Oval 9"/>
          <p:cNvSpPr/>
          <p:nvPr/>
        </p:nvSpPr>
        <p:spPr>
          <a:xfrm>
            <a:off x="1773360" y="2600280"/>
            <a:ext cx="361800" cy="35892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1773360" y="3581280"/>
            <a:ext cx="36180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1"/>
          <p:cNvSpPr/>
          <p:nvPr/>
        </p:nvSpPr>
        <p:spPr>
          <a:xfrm>
            <a:off x="17683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2"/>
          <p:cNvSpPr/>
          <p:nvPr/>
        </p:nvSpPr>
        <p:spPr>
          <a:xfrm>
            <a:off x="1773360" y="5662440"/>
            <a:ext cx="361800" cy="3621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21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22"/>
          <p:cNvSpPr/>
          <p:nvPr/>
        </p:nvSpPr>
        <p:spPr>
          <a:xfrm>
            <a:off x="624996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23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4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Бессменный котелок на улице немедленно повернул ухо к Бронскому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(М. Булг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екд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Oval 9"/>
          <p:cNvSpPr/>
          <p:nvPr/>
        </p:nvSpPr>
        <p:spPr>
          <a:xfrm>
            <a:off x="1758960" y="56595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0"/>
          <p:cNvSpPr/>
          <p:nvPr/>
        </p:nvSpPr>
        <p:spPr>
          <a:xfrm>
            <a:off x="175896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175896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2"/>
          <p:cNvSpPr/>
          <p:nvPr/>
        </p:nvSpPr>
        <p:spPr>
          <a:xfrm>
            <a:off x="175896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7"/>
          <p:cNvSpPr/>
          <p:nvPr/>
        </p:nvSpPr>
        <p:spPr>
          <a:xfrm>
            <a:off x="6324480" y="4572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8"/>
          <p:cNvSpPr/>
          <p:nvPr/>
        </p:nvSpPr>
        <p:spPr>
          <a:xfrm>
            <a:off x="6324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6324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0"/>
          <p:cNvSpPr/>
          <p:nvPr/>
        </p:nvSpPr>
        <p:spPr>
          <a:xfrm>
            <a:off x="6324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Золотистая земля была вся в ознобе, а мелкие лужицы покрылись белым ледком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М. Пришв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Oval 9"/>
          <p:cNvSpPr/>
          <p:nvPr/>
        </p:nvSpPr>
        <p:spPr>
          <a:xfrm>
            <a:off x="180504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18050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1"/>
          <p:cNvSpPr/>
          <p:nvPr/>
        </p:nvSpPr>
        <p:spPr>
          <a:xfrm>
            <a:off x="17938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2"/>
          <p:cNvSpPr/>
          <p:nvPr/>
        </p:nvSpPr>
        <p:spPr>
          <a:xfrm>
            <a:off x="1805040" y="25653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7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8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9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Будь он семи пядей во лбу, а от суда моего не уй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А.С. Пушки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раз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9"/>
          <p:cNvSpPr/>
          <p:nvPr/>
        </p:nvSpPr>
        <p:spPr>
          <a:xfrm>
            <a:off x="18446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0"/>
          <p:cNvSpPr/>
          <p:nvPr/>
        </p:nvSpPr>
        <p:spPr>
          <a:xfrm>
            <a:off x="184464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184464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2"/>
          <p:cNvSpPr/>
          <p:nvPr/>
        </p:nvSpPr>
        <p:spPr>
          <a:xfrm>
            <a:off x="184464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622620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6246720" y="46339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62467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622476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257040" y="1087560"/>
            <a:ext cx="8704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Служить бы рад, прислуживаться тошно (А. Грибое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разеолог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9"/>
          <p:cNvSpPr/>
          <p:nvPr/>
        </p:nvSpPr>
        <p:spPr>
          <a:xfrm>
            <a:off x="228600" y="228600"/>
            <a:ext cx="861048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рогой друг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 этом году тебе предстоит сдавать ГИА по русскому язы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торой уровень – проверочный тест по данной теме, за который ты получишь отме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деемся, что эти занятия помогут тебе успешно подготовиться к ГИА по русскому язык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лаю удачи!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">
            <a:hlinkClick r:id="rId1" action="ppaction://hlinksldjump"/>
          </p:cNvPr>
          <p:cNvSpPr/>
          <p:nvPr/>
        </p:nvSpPr>
        <p:spPr>
          <a:xfrm>
            <a:off x="1054080" y="5464080"/>
            <a:ext cx="3505320" cy="55584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1">
            <a:hlinkClick r:id="rId2" action="ppaction://hlinksldjump"/>
          </p:cNvPr>
          <p:cNvSpPr/>
          <p:nvPr/>
        </p:nvSpPr>
        <p:spPr>
          <a:xfrm>
            <a:off x="5181480" y="5464080"/>
            <a:ext cx="3353040" cy="555840"/>
          </a:xfrm>
          <a:prstGeom prst="bevel">
            <a:avLst>
              <a:gd name="adj" fmla="val 12500"/>
            </a:avLst>
          </a:prstGeom>
          <a:solidFill>
            <a:srgbClr val="08a1d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"/>
          <p:cNvPicPr/>
          <p:nvPr/>
        </p:nvPicPr>
        <p:blipFill>
          <a:blip r:embed="rId3"/>
          <a:stretch/>
        </p:blipFill>
        <p:spPr>
          <a:xfrm>
            <a:off x="7977240" y="152280"/>
            <a:ext cx="861840" cy="10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9"/>
          <p:cNvSpPr/>
          <p:nvPr/>
        </p:nvSpPr>
        <p:spPr>
          <a:xfrm>
            <a:off x="178596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0"/>
          <p:cNvSpPr/>
          <p:nvPr/>
        </p:nvSpPr>
        <p:spPr>
          <a:xfrm>
            <a:off x="18572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1"/>
          <p:cNvSpPr/>
          <p:nvPr/>
        </p:nvSpPr>
        <p:spPr>
          <a:xfrm>
            <a:off x="178596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185724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7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8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9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Но знай, внимающий этим камням, никто не забыт и ничто не забыто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(О. Бергголь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иф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Oval 9"/>
          <p:cNvSpPr/>
          <p:nvPr/>
        </p:nvSpPr>
        <p:spPr>
          <a:xfrm>
            <a:off x="182880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182880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1"/>
          <p:cNvSpPr/>
          <p:nvPr/>
        </p:nvSpPr>
        <p:spPr>
          <a:xfrm>
            <a:off x="182880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2"/>
          <p:cNvSpPr/>
          <p:nvPr/>
        </p:nvSpPr>
        <p:spPr>
          <a:xfrm>
            <a:off x="182880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7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8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9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257040" y="10857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усть больше будет у нас этого растения, которое называют жемчужиной северных лесов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(Л. Бериль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Oval 9"/>
          <p:cNvSpPr/>
          <p:nvPr/>
        </p:nvSpPr>
        <p:spPr>
          <a:xfrm>
            <a:off x="180324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0"/>
          <p:cNvSpPr/>
          <p:nvPr/>
        </p:nvSpPr>
        <p:spPr>
          <a:xfrm>
            <a:off x="18032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1"/>
          <p:cNvSpPr/>
          <p:nvPr/>
        </p:nvSpPr>
        <p:spPr>
          <a:xfrm>
            <a:off x="180324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2"/>
          <p:cNvSpPr/>
          <p:nvPr/>
        </p:nvSpPr>
        <p:spPr>
          <a:xfrm>
            <a:off x="180324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8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9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Вздохнул оркестр, и щемящая мелодия Верди заглушила плеск волн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К. Пауст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периф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Oval 9"/>
          <p:cNvSpPr/>
          <p:nvPr/>
        </p:nvSpPr>
        <p:spPr>
          <a:xfrm>
            <a:off x="172260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0"/>
          <p:cNvSpPr/>
          <p:nvPr/>
        </p:nvSpPr>
        <p:spPr>
          <a:xfrm>
            <a:off x="1752480" y="46386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1"/>
          <p:cNvSpPr/>
          <p:nvPr/>
        </p:nvSpPr>
        <p:spPr>
          <a:xfrm>
            <a:off x="1752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2"/>
          <p:cNvSpPr/>
          <p:nvPr/>
        </p:nvSpPr>
        <p:spPr>
          <a:xfrm>
            <a:off x="1752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7"/>
          <p:cNvSpPr/>
          <p:nvPr/>
        </p:nvSpPr>
        <p:spPr>
          <a:xfrm>
            <a:off x="63007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8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9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257040" y="1087560"/>
            <a:ext cx="8704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Так всё у него и горело в руках    ( Ф. Глад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раз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Oval 9"/>
          <p:cNvSpPr/>
          <p:nvPr/>
        </p:nvSpPr>
        <p:spPr>
          <a:xfrm>
            <a:off x="1828800" y="2573280"/>
            <a:ext cx="360360" cy="35892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0"/>
          <p:cNvSpPr/>
          <p:nvPr/>
        </p:nvSpPr>
        <p:spPr>
          <a:xfrm>
            <a:off x="182880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1"/>
          <p:cNvSpPr/>
          <p:nvPr/>
        </p:nvSpPr>
        <p:spPr>
          <a:xfrm>
            <a:off x="182880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2"/>
          <p:cNvSpPr/>
          <p:nvPr/>
        </p:nvSpPr>
        <p:spPr>
          <a:xfrm>
            <a:off x="186696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7"/>
          <p:cNvSpPr/>
          <p:nvPr/>
        </p:nvSpPr>
        <p:spPr>
          <a:xfrm>
            <a:off x="625644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8"/>
          <p:cNvSpPr/>
          <p:nvPr/>
        </p:nvSpPr>
        <p:spPr>
          <a:xfrm>
            <a:off x="62564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9"/>
          <p:cNvSpPr/>
          <p:nvPr/>
        </p:nvSpPr>
        <p:spPr>
          <a:xfrm>
            <a:off x="6248520" y="2573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20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257040" y="1087560"/>
            <a:ext cx="8704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Исчезла деревня, пропал из виду недалёкий лесок (Е. Но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ин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алле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Oval 9"/>
          <p:cNvSpPr/>
          <p:nvPr/>
        </p:nvSpPr>
        <p:spPr>
          <a:xfrm>
            <a:off x="1752480" y="56595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1752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75248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752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7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8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9"/>
          <p:cNvSpPr/>
          <p:nvPr/>
        </p:nvSpPr>
        <p:spPr>
          <a:xfrm>
            <a:off x="6248520" y="56595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риехав домой, Лаевский и Надежда Федоровна вошли в свои темные, душные, скучные комнаты (А. Чех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паралле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00"/>
          <p:cNvSpPr/>
          <p:nvPr/>
        </p:nvSpPr>
        <p:spPr>
          <a:xfrm>
            <a:off x="3276720" y="5181480"/>
            <a:ext cx="2590560" cy="47952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Источники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821880" y="1100160"/>
            <a:ext cx="71024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ры шаблона: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харова Т.А.,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методист Рязанского института развития образования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йдакова Т. Б.,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учитель русского языка и литературы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У СОШ № 3 г. Амурска Хабаровского края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9" name="Picture 84" descr=""/>
          <p:cNvPicPr/>
          <p:nvPr/>
        </p:nvPicPr>
        <p:blipFill>
          <a:blip r:embed="rId1"/>
          <a:stretch/>
        </p:blipFill>
        <p:spPr>
          <a:xfrm>
            <a:off x="3511440" y="2895480"/>
            <a:ext cx="147024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9"/>
          <p:cNvSpPr/>
          <p:nvPr/>
        </p:nvSpPr>
        <p:spPr>
          <a:xfrm>
            <a:off x="250920" y="18900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228600" y="1219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аждое задание имеет 4 варианта ответа. Ты должен выбрать ответ с ошибкой в образовании формы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2. Если ты выбрал ответ с ошибкой в образовании формы слов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явится   «плю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3. Если ты выбрал безошибочный ответ, появится «мину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4. Переход к следующему заданию осуществляется по кнопке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04920" y="4572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"/>
          <p:cNvPicPr/>
          <p:nvPr/>
        </p:nvPicPr>
        <p:blipFill>
          <a:blip r:embed="rId1"/>
          <a:stretch/>
        </p:blipFill>
        <p:spPr>
          <a:xfrm>
            <a:off x="7977240" y="152280"/>
            <a:ext cx="861840" cy="10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1676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2"/>
          <p:cNvSpPr/>
          <p:nvPr/>
        </p:nvSpPr>
        <p:spPr>
          <a:xfrm>
            <a:off x="1676520" y="3618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3"/>
          <p:cNvSpPr/>
          <p:nvPr/>
        </p:nvSpPr>
        <p:spPr>
          <a:xfrm>
            <a:off x="1676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4"/>
          <p:cNvSpPr/>
          <p:nvPr/>
        </p:nvSpPr>
        <p:spPr>
          <a:xfrm>
            <a:off x="1676520" y="57783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екд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иф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3"/>
          <p:cNvSpPr/>
          <p:nvPr/>
        </p:nvSpPr>
        <p:spPr>
          <a:xfrm>
            <a:off x="6324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8"/>
          <p:cNvSpPr/>
          <p:nvPr/>
        </p:nvSpPr>
        <p:spPr>
          <a:xfrm>
            <a:off x="6324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9"/>
          <p:cNvSpPr/>
          <p:nvPr/>
        </p:nvSpPr>
        <p:spPr>
          <a:xfrm>
            <a:off x="634536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0"/>
          <p:cNvSpPr/>
          <p:nvPr/>
        </p:nvSpPr>
        <p:spPr>
          <a:xfrm>
            <a:off x="6324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6352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И слышно было до рассвета как ликовал францу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М.Лермонт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1"/>
          <a:stretch/>
        </p:blipFill>
        <p:spPr>
          <a:xfrm>
            <a:off x="8105760" y="27734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11"/>
          <p:cNvSpPr/>
          <p:nvPr/>
        </p:nvSpPr>
        <p:spPr>
          <a:xfrm>
            <a:off x="17146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1676520" y="36259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3"/>
          <p:cNvSpPr/>
          <p:nvPr/>
        </p:nvSpPr>
        <p:spPr>
          <a:xfrm>
            <a:off x="1676520" y="4708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1676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2"/>
          <p:cNvSpPr/>
          <p:nvPr/>
        </p:nvSpPr>
        <p:spPr>
          <a:xfrm>
            <a:off x="632448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6324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4"/>
          <p:cNvSpPr/>
          <p:nvPr/>
        </p:nvSpPr>
        <p:spPr>
          <a:xfrm>
            <a:off x="6324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5"/>
          <p:cNvSpPr/>
          <p:nvPr/>
        </p:nvSpPr>
        <p:spPr>
          <a:xfrm>
            <a:off x="6324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63520" y="107964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Вдруг глядь – напротив гриб голову из кустов высуну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К. Пауст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разговорная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1" descr=""/>
          <p:cNvPicPr/>
          <p:nvPr/>
        </p:nvPicPr>
        <p:blipFill>
          <a:blip r:embed="rId1"/>
          <a:stretch/>
        </p:blipFill>
        <p:spPr>
          <a:xfrm>
            <a:off x="8105760" y="27734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11"/>
          <p:cNvSpPr/>
          <p:nvPr/>
        </p:nvSpPr>
        <p:spPr>
          <a:xfrm>
            <a:off x="1706400" y="25671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2"/>
          <p:cNvSpPr/>
          <p:nvPr/>
        </p:nvSpPr>
        <p:spPr>
          <a:xfrm>
            <a:off x="1706400" y="36291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3"/>
          <p:cNvSpPr/>
          <p:nvPr/>
        </p:nvSpPr>
        <p:spPr>
          <a:xfrm>
            <a:off x="1706400" y="46656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4"/>
          <p:cNvSpPr/>
          <p:nvPr/>
        </p:nvSpPr>
        <p:spPr>
          <a:xfrm>
            <a:off x="1706400" y="5715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6289560" y="25146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6289560" y="4629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4"/>
          <p:cNvSpPr/>
          <p:nvPr/>
        </p:nvSpPr>
        <p:spPr>
          <a:xfrm>
            <a:off x="63104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5"/>
          <p:cNvSpPr/>
          <p:nvPr/>
        </p:nvSpPr>
        <p:spPr>
          <a:xfrm>
            <a:off x="6310440" y="5716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6352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Так вот и сидел я на полянке, отдыхал и разглядывал лесного короля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(А. Кузнец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"/>
          <p:cNvPicPr/>
          <p:nvPr/>
        </p:nvPicPr>
        <p:blipFill>
          <a:blip r:embed="rId1"/>
          <a:stretch/>
        </p:blipFill>
        <p:spPr>
          <a:xfrm>
            <a:off x="8105760" y="27734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11"/>
          <p:cNvSpPr/>
          <p:nvPr/>
        </p:nvSpPr>
        <p:spPr>
          <a:xfrm>
            <a:off x="1703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1706400" y="36273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3"/>
          <p:cNvSpPr/>
          <p:nvPr/>
        </p:nvSpPr>
        <p:spPr>
          <a:xfrm>
            <a:off x="1703520" y="4778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"/>
          <p:cNvSpPr/>
          <p:nvPr/>
        </p:nvSpPr>
        <p:spPr>
          <a:xfrm>
            <a:off x="1703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2"/>
          <p:cNvSpPr/>
          <p:nvPr/>
        </p:nvSpPr>
        <p:spPr>
          <a:xfrm>
            <a:off x="6383160" y="2571840"/>
            <a:ext cx="3607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3"/>
          <p:cNvSpPr/>
          <p:nvPr/>
        </p:nvSpPr>
        <p:spPr>
          <a:xfrm>
            <a:off x="6383160" y="3581280"/>
            <a:ext cx="3607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37236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6383160" y="4778280"/>
            <a:ext cx="3607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6352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Делу время, а потехе ч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т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1" descr=""/>
          <p:cNvPicPr/>
          <p:nvPr/>
        </p:nvPicPr>
        <p:blipFill>
          <a:blip r:embed="rId1"/>
          <a:stretch/>
        </p:blipFill>
        <p:spPr>
          <a:xfrm>
            <a:off x="8105760" y="27734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9"/>
          <p:cNvSpPr/>
          <p:nvPr/>
        </p:nvSpPr>
        <p:spPr>
          <a:xfrm>
            <a:off x="1752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1752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1"/>
          <p:cNvSpPr/>
          <p:nvPr/>
        </p:nvSpPr>
        <p:spPr>
          <a:xfrm>
            <a:off x="1752480" y="4735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1752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6351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63770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353280" y="4724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6350040" y="57326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263520" y="1087560"/>
            <a:ext cx="8704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В церкви была вся Москва, родные и знакомые (Л. 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Oval 9"/>
          <p:cNvSpPr/>
          <p:nvPr/>
        </p:nvSpPr>
        <p:spPr>
          <a:xfrm>
            <a:off x="1752480" y="25700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1752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1752480" y="47293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2"/>
          <p:cNvSpPr/>
          <p:nvPr/>
        </p:nvSpPr>
        <p:spPr>
          <a:xfrm>
            <a:off x="1752480" y="56484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6324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7"/>
          <p:cNvSpPr/>
          <p:nvPr/>
        </p:nvSpPr>
        <p:spPr>
          <a:xfrm>
            <a:off x="6377040" y="4708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8"/>
          <p:cNvSpPr/>
          <p:nvPr/>
        </p:nvSpPr>
        <p:spPr>
          <a:xfrm>
            <a:off x="63770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9"/>
          <p:cNvSpPr/>
          <p:nvPr/>
        </p:nvSpPr>
        <p:spPr>
          <a:xfrm>
            <a:off x="637704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6352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среди поляны стоял дуб, огромный и величественный, как собор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(Ю. Нагиб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алле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Синягина Ю.В.</dc:creator>
  <dc:description/>
  <cp:keywords>Подготовка к ЕГЭ Морфологические нормы</cp:keywords>
  <dc:language>en-US</dc:language>
  <cp:lastModifiedBy>User</cp:lastModifiedBy>
  <dcterms:modified xsi:type="dcterms:W3CDTF">2012-11-30T01:14:12Z</dcterms:modified>
  <cp:revision>171</cp:revision>
  <dc:subject/>
  <dc:title>Учебный тренажёр и проверочный те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